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6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463D-ADF3-4A8F-9D6C-13B3153D4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1E1C-E40E-42CF-9C3F-D5FE3C4F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DDFB-B9AD-4A79-9C41-4D17F1035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69F2-87EB-494D-8119-D7062E8B4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9B5BA-B28F-4885-AD76-F9F46BB52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78BCB-782F-4219-BE35-0A8791C4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DB6B-B3F6-4B70-940B-307B52517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CF2FE-9DF4-4828-BF08-3A3C15D6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C83D-C039-48CA-8368-1E23B81E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62534-A7F3-4C5A-B593-72DF8574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87A4-0260-45AA-8A7B-CE2D683A5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3A6A-375E-4F4E-B9CA-8677B99B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6DA54-6CA9-4DDA-881C-ABB88EF7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AC62-1B19-420D-B11C-D9F2575BB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E2CC2-2F45-4A82-A998-6029336B3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5FBB0-5DEB-43EF-884E-57B9575A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3B5C-60A7-4614-9A6F-F41C2D8C5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455C0-3C68-4639-A0EE-43C920320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E4432-CD0E-4C2B-9B4C-249C82B46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256DA-64BD-4766-A15C-16BD1C1D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FAE79-E2BE-49D5-B846-1F1D0E046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C899E-37A8-4F54-BFFD-37C86139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E26B-B48C-47AE-9CDA-4CEE7CE3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D9D373-026F-46C8-997A-6A90AA8C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7E22E-D5CF-44FD-8F2E-48CBD0DB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488BE-4B37-4A03-91C7-036A8243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DA8229-8F24-4860-8A3C-25B78C1F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94EDD-4D4B-4339-8378-D38B4F1E4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3E7C9-77A9-4BFD-958A-BA758594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306B4-4784-433F-A728-024C3B150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54997-CBB9-4F8F-9FC7-7F084A008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6CBA2-E72F-4386-905B-4DDC3E76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CDC47-465E-48DB-9A75-9F48F0373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1A2-C426-433A-8B78-8DD16EF9A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0AB6D-1AEB-4778-8F94-310F8EE7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6E32E0-C712-49B4-BB8D-20F2E2843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5D7A4-8ABC-4E2B-83F0-F87BE833D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5E30C-527B-44AB-B559-9ED501283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8E4CB-4CBE-47A4-BD9E-6D2A2718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3A6C9-930E-4710-822B-71326164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DE45B-2E51-4F7E-82A9-05C000D8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0014B-CC76-418E-8155-BD77522CC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DD003-7180-4F45-8B42-0628A3B5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9A05D-6A9E-4F72-B162-613FF537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7F58-25DC-41A9-9192-02EC1CB3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9EBC3-29F5-4D35-859C-084B70664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7CE39-3040-424E-9BD8-625BD6EA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E2B472-AE89-4D92-8933-660A4234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76A4B5-8891-40A3-B7CD-37BCC794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54375-A807-430B-A7C9-43D564BB6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BE924-1590-4053-818A-0643625C0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6CDB6-DA54-492C-8CED-CC6BDEBB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118F2-3D4A-47B0-99DA-A2002AF5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2A1D7D-8DBA-4E97-9511-84E1B24E5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A4C1C-AC24-43B7-A567-E9AAC1CDB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7015-09D9-4546-B7F2-F4FB4D7DC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ABCA2-78B8-4541-A39C-0909A8AEE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CC3ED-B0E6-4C68-BBA8-577F5B47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5F0F7-B69D-490A-9595-B4A116FE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C2D30-6E79-433A-A276-41C2DE7A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CA6CD-EBA2-447F-B971-0204799C1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E59FA-58CE-4065-81E2-0405A75DC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A2C90D-EB99-426A-B463-0A0120D24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D52F9B-6313-4A62-9BA8-0D9BE3957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7419D-5319-4979-857E-A08C10D9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468B4-060E-41B3-8AE7-DCF9D999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B930-01DF-41A6-881F-F195356C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797781-F708-43AF-BE71-61217A594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4D67DD-51F8-4B8D-83FB-51F87AB94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6DFBD-E72E-4360-8D11-642164783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FC31-1D43-4AF8-9FEE-450248B0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D95A-774D-4371-8EC8-3B78A15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4053-DD30-4BBE-B1F7-867748C44C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98EE-CEB9-49E8-AB63-8325EB8C73B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390C-FE1C-4DC0-9BA1-4369DA5BDD3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C580-A984-4294-9E43-3BF6F67ED34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880E-2DB8-4D43-8C3E-19C4EA23D3E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34E3-F850-436B-B7F8-7BA6050B81C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8088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bf5f9"/>
                </a:solidFill>
                <a:latin typeface="Arial"/>
              </a:rPr>
              <a:t>PLANT TISSUE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0" y="9140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pending on the function they perform, we distinguish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hizodermis - parenchyma for absorption of water and mineral substa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lorenchyma - parenchyma for photosynthesi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renchyma for storing reserve substances (for storing nutrients - proteins, fats), aerenchyma, parenchyma for storing water...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20" name="Object 10"/>
          <p:cNvGraphicFramePr/>
          <p:nvPr/>
        </p:nvGraphicFramePr>
        <p:xfrm>
          <a:off x="5791320" y="533520"/>
          <a:ext cx="2527200" cy="105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533520"/>
                    <a:ext cx="252720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13"/>
          <p:cNvGraphicFramePr/>
          <p:nvPr/>
        </p:nvGraphicFramePr>
        <p:xfrm>
          <a:off x="5791320" y="1752480"/>
          <a:ext cx="2552760" cy="130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1752480"/>
                    <a:ext cx="2552760" cy="13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7"/>
          <p:cNvGraphicFramePr/>
          <p:nvPr/>
        </p:nvGraphicFramePr>
        <p:xfrm>
          <a:off x="5791320" y="3200400"/>
          <a:ext cx="2552760" cy="148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5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91320" y="3200400"/>
                    <a:ext cx="25527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8"/>
          <p:cNvGraphicFramePr/>
          <p:nvPr/>
        </p:nvGraphicFramePr>
        <p:xfrm>
          <a:off x="5791320" y="5029200"/>
          <a:ext cx="2552760" cy="1295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7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5029200"/>
                    <a:ext cx="25527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MECHANICAL TISSUE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maintain the shape of the plant bod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cells have a thickened cell w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types of mechanical tissu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aaf2"/>
                </a:solidFill>
                <a:latin typeface="Arial"/>
              </a:rPr>
              <a:t>COLLENHY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in the young parts of the plant,i.e. in organs that are still gr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59aaf2"/>
                </a:solidFill>
                <a:latin typeface="Arial"/>
              </a:rPr>
              <a:t>SCLERENCHY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– in the parts of the plant that arefinished grow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9072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ff"/>
                </a:solidFill>
                <a:latin typeface="Arial"/>
              </a:rPr>
              <a:t>COMPLEX PERMANENT TISSUES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1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PROTECTIVE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irect contact with the external environm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lex tissues - they are built by different types of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uble function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. protec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. communication (stomes, lenticels, nectaries..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8377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100"/>
            </a:br>
            <a:r>
              <a:rPr b="1" lang="sr-CS" sz="3600" spc="-1" strike="noStrike">
                <a:solidFill>
                  <a:srgbClr val="660066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EPYDERMI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228600" y="2514240"/>
            <a:ext cx="86868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cated on the surface of the plant body (leaves, flower part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pidermal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pecialize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5562720" y="4343400"/>
          <a:ext cx="2654280" cy="214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2720" y="4343400"/>
                    <a:ext cx="2654280" cy="214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" name="Object 10"/>
          <p:cNvGraphicFramePr/>
          <p:nvPr/>
        </p:nvGraphicFramePr>
        <p:xfrm>
          <a:off x="1295280" y="4856040"/>
          <a:ext cx="2578320" cy="200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56040"/>
                    <a:ext cx="257832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2"/>
          <p:cNvSpPr/>
          <p:nvPr/>
        </p:nvSpPr>
        <p:spPr>
          <a:xfrm>
            <a:off x="457200" y="152280"/>
            <a:ext cx="82296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EPYDERM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7"/>
          <p:cNvSpPr/>
          <p:nvPr/>
        </p:nvSpPr>
        <p:spPr>
          <a:xfrm>
            <a:off x="380880" y="121932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TO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Picture 7" descr="Plant Tissues | Biology 343 – Plants and People"/>
          <p:cNvPicPr/>
          <p:nvPr/>
        </p:nvPicPr>
        <p:blipFill>
          <a:blip r:embed="rId1"/>
          <a:stretch/>
        </p:blipFill>
        <p:spPr>
          <a:xfrm>
            <a:off x="1676520" y="2057400"/>
            <a:ext cx="5790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660066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660066"/>
                </a:solidFill>
                <a:latin typeface="Arial"/>
              </a:rPr>
              <a:t>PERIDER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40384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tective lay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 is found on the surface of older parts of plant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ually replaces the epidermis - the green color changes to brow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4267080" y="2286000"/>
          <a:ext cx="161316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161316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6"/>
          <p:cNvGraphicFramePr/>
          <p:nvPr/>
        </p:nvGraphicFramePr>
        <p:xfrm>
          <a:off x="5943600" y="2514600"/>
          <a:ext cx="2971800" cy="279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2514600"/>
                    <a:ext cx="297180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8"/>
          <p:cNvSpPr/>
          <p:nvPr/>
        </p:nvSpPr>
        <p:spPr>
          <a:xfrm>
            <a:off x="228600" y="685800"/>
            <a:ext cx="4191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cc"/>
                </a:solidFill>
                <a:latin typeface="Arial"/>
              </a:rPr>
              <a:t>LENTIC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" y="4648320"/>
            <a:ext cx="73152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on the periderm instead of compact tissue 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re made of spherical cells with an intercellular space between them - air passes thr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ces where there were stomas on the epiderm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0" name="Object 10"/>
          <p:cNvGraphicFramePr/>
          <p:nvPr/>
        </p:nvGraphicFramePr>
        <p:xfrm>
          <a:off x="3352680" y="914400"/>
          <a:ext cx="4343400" cy="33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914400"/>
                    <a:ext cx="4343400" cy="33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2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VASCULAR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the conduction of matter through all parts of the plant bod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takes place in two direction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IRATION FLOW – transport of water and minerals from the roots to the leav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MILATION FLOW - transport of substances created in the process of photosynthesis from the leaves to the roo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ypes of tissu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Xyl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Phlo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54" name="Picture 5" descr="Complex permanent tissue - xylem — lesson. Science State Board, Class 9."/>
          <p:cNvPicPr/>
          <p:nvPr/>
        </p:nvPicPr>
        <p:blipFill>
          <a:blip r:embed="rId1"/>
          <a:stretch/>
        </p:blipFill>
        <p:spPr>
          <a:xfrm>
            <a:off x="5372280" y="4648320"/>
            <a:ext cx="2819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3.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ECRETORY SYSTEM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retory cells can be single or in group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thin primary cell wa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duce different secretions - solid or liquid –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retes them from the outside (EXOGENEOUS secretory cells) or collects them in its body (ENDOGENEOUS secretory cells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0" y="193464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cellular organisms - unicellular alga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ellular organis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8" name="Picture 5" descr="Multicellular and Unicellular Organisms - Differences and Examples"/>
          <p:cNvPicPr/>
          <p:nvPr/>
        </p:nvPicPr>
        <p:blipFill>
          <a:blip r:embed="rId1"/>
          <a:srcRect l="0" t="52463" r="0" b="0"/>
          <a:stretch/>
        </p:blipFill>
        <p:spPr>
          <a:xfrm>
            <a:off x="1371600" y="3657600"/>
            <a:ext cx="6197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58" name="Picture 8" descr="Secretory Tissue in Plants + PPT | Easy Biology Class"/>
          <p:cNvPicPr/>
          <p:nvPr/>
        </p:nvPicPr>
        <p:blipFill>
          <a:blip r:embed="rId1"/>
          <a:srcRect l="0" t="12721" r="45035" b="0"/>
          <a:stretch/>
        </p:blipFill>
        <p:spPr>
          <a:xfrm>
            <a:off x="457200" y="1905120"/>
            <a:ext cx="4648320" cy="470376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0" descr="Secretory tissues in Plants || Resins, gums, tannins, mucilage, Latex -  YouTube"/>
          <p:cNvPicPr/>
          <p:nvPr/>
        </p:nvPicPr>
        <p:blipFill>
          <a:blip r:embed="rId2"/>
          <a:srcRect l="0" t="13606" r="0" b="15643"/>
          <a:stretch/>
        </p:blipFill>
        <p:spPr>
          <a:xfrm>
            <a:off x="5410080" y="2514600"/>
            <a:ext cx="3733920" cy="1981080"/>
          </a:xfrm>
          <a:prstGeom prst="rect">
            <a:avLst/>
          </a:prstGeom>
          <a:ln w="0">
            <a:noFill/>
          </a:ln>
        </p:spPr>
      </p:pic>
      <p:sp>
        <p:nvSpPr>
          <p:cNvPr id="360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lant tissu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roup of morphologically and physiologically identical cells with a structure and function different from other cells of the same organis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nt tissues build both living and dead cel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2" descr="Plant tissue | Types Of Plant Tissue System &amp; Their Function"/>
          <p:cNvPicPr/>
          <p:nvPr/>
        </p:nvPicPr>
        <p:blipFill>
          <a:blip r:embed="rId2"/>
          <a:stretch/>
        </p:blipFill>
        <p:spPr>
          <a:xfrm>
            <a:off x="355680" y="1066680"/>
            <a:ext cx="878832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305560" cy="1085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0000"/>
                </a:solidFill>
                <a:uFillTx/>
                <a:latin typeface="Arial"/>
              </a:rPr>
              <a:t>1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MERISTEMIC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04560" y="1935000"/>
            <a:ext cx="464796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s of the plant body in which cells are constantly dividing are called MERISTEM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s are parenchymatous in shape, with only a primary cell wall, dense cytoplasm, small vacuoles and plastids at the proplastid leve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ertain number of meristem cells retain their embryonic character throughout the life of the plant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06" name="Object 9"/>
          <p:cNvGraphicFramePr/>
          <p:nvPr/>
        </p:nvGraphicFramePr>
        <p:xfrm>
          <a:off x="5943600" y="1447920"/>
          <a:ext cx="2736720" cy="26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447920"/>
                    <a:ext cx="2736720" cy="26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Object 11"/>
          <p:cNvGraphicFramePr/>
          <p:nvPr/>
        </p:nvGraphicFramePr>
        <p:xfrm>
          <a:off x="6019920" y="4114800"/>
          <a:ext cx="289548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411480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/>
          </p:nvPr>
        </p:nvSpPr>
        <p:spPr>
          <a:xfrm>
            <a:off x="228600" y="9140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rding to their position in the plant, meristems can b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1" name="Picture 5" descr="Learn About Location Of Plant Tissue | Chegg.com"/>
          <p:cNvPicPr/>
          <p:nvPr/>
        </p:nvPicPr>
        <p:blipFill>
          <a:blip r:embed="rId1"/>
          <a:stretch/>
        </p:blipFill>
        <p:spPr>
          <a:xfrm>
            <a:off x="1752480" y="2362320"/>
            <a:ext cx="489132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0000"/>
                </a:solidFill>
                <a:uFillTx/>
                <a:latin typeface="Arial"/>
              </a:rPr>
              <a:t>2. 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Arial"/>
              </a:rPr>
              <a:t>PERMANENT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of these tissues are specialized to perform a specific func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ells of these tissues usually do not have the ability to divi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SIMPLE TISS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sist of only one type of cells. We include:1) parenchyma 2) mechanical tissues - collenchyma and sclerenchym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COMPLEX TISS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ontain more than one type of cell. They build three systems:1) subdermal system - epidermis and periderm 2) conducting system - phloem and xylem 3) secretory system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Rectangle 6" descr=""/>
          <p:cNvPicPr/>
          <p:nvPr/>
        </p:nvPicPr>
        <p:blipFill>
          <a:blip r:embed="rId1"/>
          <a:stretch/>
        </p:blipFill>
        <p:spPr>
          <a:xfrm>
            <a:off x="450720" y="2206800"/>
            <a:ext cx="82425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C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4617b"/>
                </a:solidFill>
                <a:latin typeface="Arial"/>
              </a:rPr>
              <a:t>PARENCHYMAL TISSUE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305920" cy="21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s the basic mass of the plant body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of parenchymal tissue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ve a thin primary cell wal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ytoplasm are plastids and a large vacuol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lls retain the ability to divid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17" name="Object 6"/>
          <p:cNvGraphicFramePr/>
          <p:nvPr/>
        </p:nvGraphicFramePr>
        <p:xfrm>
          <a:off x="1981080" y="4343400"/>
          <a:ext cx="4724640" cy="242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343400"/>
                    <a:ext cx="4724640" cy="24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7:13:33Z</dcterms:created>
  <dc:creator>prodekan 01</dc:creator>
  <dc:description/>
  <dc:language>en-US</dc:language>
  <cp:lastModifiedBy>Korisnik</cp:lastModifiedBy>
  <dcterms:modified xsi:type="dcterms:W3CDTF">2022-10-03T13:34:31Z</dcterms:modified>
  <cp:revision>192</cp:revision>
  <dc:subject/>
  <dc:title>HROMOZOMSKE ABERACIJE</dc:title>
</cp:coreProperties>
</file>